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A88-C96F-4CE7-B0D8-654191C9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577-87F2-4BF0-833D-509C4E76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4956-CCAF-4921-8EA0-05A78229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C6A-2434-49C7-995C-8EEE1130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8B6C-7BEC-45C0-A883-D72FE569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AA38-FE54-4B16-BB26-067C4181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0D65-2152-4239-BD7A-714C99F5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2D70-40CE-4F8C-A139-55DAEE19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BC51-CA76-4CFB-B9AD-B18674E0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3504-B87C-4B88-8F52-CEAF2271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937D-CA99-4A37-A682-A0714D67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513A-21CC-43F7-A0DC-67469A9D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EBA5-B00D-4F0C-AC6C-C0A4F5E3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9324-A915-473F-AE84-ECFFF929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9B88-DE5D-4CDC-AF20-9058C9AC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71C1-C4B4-4CF0-B1B2-43CDE34D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7F22-E90D-4729-BF60-A486700D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05B-0EF9-4E05-8B92-D4955B20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4303-34D5-463A-8ED2-5A3CD977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D58B-9C91-4C6D-BE12-17590D2F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B26E-C9DB-47FA-B1F9-6CDB18F4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5F3-18B1-4E2B-B2AA-7D5FE393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870-88B9-4613-AAA9-DDCA7E2B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EFC-5723-47F7-B2BE-9361FC8A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46C7-21A4-41BA-A06B-E0C542A10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96BA-EB62-4E0E-A338-49D73E025A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nppbillon.ru/images/e-mail.png" TargetMode="External"/><Relationship Id="rId3" Type="http://schemas.openxmlformats.org/officeDocument/2006/relationships/hyperlink" Target="http://inzider.ru/shownews/picture/big/101162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5388120"/>
            <a:ext cx="83581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14680" y="4571640"/>
            <a:ext cx="5643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nppbillon.ru/images/e-mail.png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nzider.ru/shownews/picture/big/101162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8" name="Picture 5" descr="d:\Мои документы\Мои рисунки\e-mail.png"/>
          <p:cNvPicPr/>
          <p:nvPr/>
        </p:nvPicPr>
        <p:blipFill>
          <a:blip r:embed="rId4"/>
          <a:stretch/>
        </p:blipFill>
        <p:spPr>
          <a:xfrm rot="20579400">
            <a:off x="717120" y="1217160"/>
            <a:ext cx="1171800" cy="1171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5"/>
          <a:stretch/>
        </p:blipFill>
        <p:spPr>
          <a:xfrm>
            <a:off x="571680" y="2857680"/>
            <a:ext cx="17380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8:46:18Z</dcterms:created>
  <dc:creator>Comp</dc:creator>
  <dc:description/>
  <dc:language>en-US</dc:language>
  <cp:lastModifiedBy>Comp</cp:lastModifiedBy>
  <dcterms:modified xsi:type="dcterms:W3CDTF">2011-07-27T08:51:37Z</dcterms:modified>
  <cp:revision>3</cp:revision>
  <dc:subject/>
  <dc:title>Слайд 1</dc:title>
</cp:coreProperties>
</file>